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jpeg" ContentType="image/jpeg"/>
  <Override PartName="/ppt/media/image5.png" ContentType="image/png"/>
  <Override PartName="/ppt/media/image9.jpeg" ContentType="image/jpeg"/>
  <Override PartName="/ppt/media/image13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6.png" ContentType="image/png"/>
  <Override PartName="/ppt/media/image11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22320" y="773280"/>
            <a:ext cx="4952880" cy="371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6480" y="4721400"/>
            <a:ext cx="498456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CBAC-2F1E-461C-9E72-66FE21233874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22320" y="773280"/>
            <a:ext cx="4952880" cy="37144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06480" y="4721400"/>
            <a:ext cx="498456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華康細明體"/>
              </a:rPr>
              <a:t>推廣“康健樂頤年”的國家或地區得到人民響應的主題，是把年長視為一個可以積極面對的過程，長者雖然有不同的需要，但仍然充滿機會。重點是改善長者的生活質素，而並非只眼於治療和預防疾病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華康細明體"/>
              </a:rPr>
              <a:t>“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華康細明體"/>
              </a:rPr>
              <a:t>康健樂頤年”策略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華康細明體"/>
              </a:rPr>
              <a:t>促使市民從小養成健康的生活方式，以改善個人的身體和心理社會健康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華康細明體"/>
              </a:rPr>
              <a:t>鼓勵個人為自己的健康負責，同時協助有需要的人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華康細明體"/>
              </a:rPr>
              <a:t>政府應起帶頭作用，並與專業組織、志願團體和私營機構等有關方面合作，協力向公眾推介“康健樂頤年”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華康細明體"/>
              </a:rPr>
              <a:t>在社區推動環境改革，通過去除障礙的社區設計、發展可供體弱和殘疾人士使用的運輸服務，以及建立社區護理支援網絡，促進健康生活，達到“老有所屬”的目的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華康細明體"/>
              </a:rPr>
              <a:t>協助長者繼續參與社區、經濟和社交活動，確保他們可以繼續享有積極愜意的生活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華康細明體"/>
              </a:rPr>
              <a:t>積極採取各項措施，推廣年長的正面形象，強調長者對家庭、社區和社會可作的貢獻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6F45-6DA5-40D1-9C54-90E6D4D74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66A9-3665-4150-84D1-E290314D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F10E-855C-4382-9FC5-155230A97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414B-E21B-4C48-9B75-8E563C02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5454-18B6-4311-8CA9-6718F830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CFA2-3F31-4AD8-AE3C-C06CDD20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F3E0-0A20-4C12-B32C-0DA5EFD9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D0B9-F56A-4404-9247-B0E56069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B6A5-3198-4DC7-BE1E-23737F0C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477F-492A-4BCA-99F4-4DF0CC35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7058-172E-446A-920E-16F61285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1CA1-3A5B-4291-84DF-87AF64C2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8827-0103-4ADE-9238-F6E2DA38802D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Halogo" descr=""/>
          <p:cNvPicPr/>
          <p:nvPr/>
        </p:nvPicPr>
        <p:blipFill>
          <a:blip r:embed="rId3"/>
          <a:stretch/>
        </p:blipFill>
        <p:spPr>
          <a:xfrm>
            <a:off x="8229600" y="304920"/>
            <a:ext cx="64296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905120" y="1219320"/>
            <a:ext cx="5181480" cy="1104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3880" y="2228760"/>
            <a:ext cx="6400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group-run-start" descr=""/>
          <p:cNvPicPr/>
          <p:nvPr/>
        </p:nvPicPr>
        <p:blipFill>
          <a:blip r:embed="rId3"/>
          <a:stretch/>
        </p:blipFill>
        <p:spPr>
          <a:xfrm>
            <a:off x="1905120" y="2362320"/>
            <a:ext cx="5181480" cy="3047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25760" y="5315040"/>
            <a:ext cx="57909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At present over 46% of the hospital day-beds are occupied by older persons, while they represent only about 11% of the total population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Chronic diseases adversely affect the quality of life, bring personal hardship to the individuals concerned, and increase the burden on society.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br>
              <a:rPr sz="3200"/>
            </a:b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romotion of healthy ageing will lead to physical and psychosocial well-being, add life to years, and generally benefit the community.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762120"/>
            <a:ext cx="2514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II.  WHAT</a:t>
            </a:r>
            <a:br>
              <a:rPr sz="4400"/>
            </a:br>
            <a:br>
              <a:rPr sz="4400"/>
            </a:b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Vision and Strategies</a:t>
            </a: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1143000" y="1980720"/>
            <a:ext cx="72388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  </a:t>
            </a:r>
            <a:r>
              <a:rPr b="1" lang="en-US" sz="2800" spc="-1" strike="noStrike">
                <a:solidFill>
                  <a:srgbClr val="996633"/>
                </a:solidFill>
                <a:latin typeface="TimesNewRoman"/>
              </a:rPr>
              <a:t>is to create a society with a sustainable supportive environment that enables  all persons, including older persons, to have access to information, services and support in order to make responsible choices regarding their health and well-being and to live independently as valued members of our community for as long as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1523880" y="10666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Times New Roman"/>
                <a:ea typeface="細明體"/>
              </a:rPr>
              <a:t>Healthy Ageing Campa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23520" y="1447920"/>
            <a:ext cx="6248520" cy="844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Four Strategic Directions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800080"/>
                </a:solidFill>
                <a:latin typeface="Times New Roman"/>
              </a:rPr>
              <a:t>1.  </a:t>
            </a: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PROMOTE PERSONAL RESPON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2.  STRENGTHEN COMMUNITY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Times New Roman"/>
              </a:rPr>
              <a:t>3.  CREATE SUPPORTIVE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4.  IMPROVE IMAGE OF AG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9966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800080"/>
                </a:solidFill>
                <a:latin typeface="Times New Roman"/>
              </a:rPr>
              <a:t>1. </a:t>
            </a: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Promote Personal Responsi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281952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Personal lifestyle is one of the four major factors determining one’s health. 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This is your own decision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914400" y="1371600"/>
            <a:ext cx="7315200" cy="642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Pursue Health - Foster Self-effica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button_2" descr=""/>
          <p:cNvPicPr/>
          <p:nvPr/>
        </p:nvPicPr>
        <p:blipFill>
          <a:blip r:embed="rId2"/>
          <a:stretch/>
        </p:blipFill>
        <p:spPr>
          <a:xfrm>
            <a:off x="1981080" y="2438280"/>
            <a:ext cx="1676520" cy="1600200"/>
          </a:xfrm>
          <a:prstGeom prst="rect">
            <a:avLst/>
          </a:prstGeom>
          <a:ln w="0">
            <a:noFill/>
          </a:ln>
        </p:spPr>
      </p:pic>
      <p:pic>
        <p:nvPicPr>
          <p:cNvPr id="333" name="button_3" descr=""/>
          <p:cNvPicPr/>
          <p:nvPr/>
        </p:nvPicPr>
        <p:blipFill>
          <a:blip r:embed="rId3"/>
          <a:stretch/>
        </p:blipFill>
        <p:spPr>
          <a:xfrm>
            <a:off x="5715000" y="24382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4"/>
          <a:stretch/>
        </p:blipFill>
        <p:spPr>
          <a:xfrm>
            <a:off x="3962520" y="4038480"/>
            <a:ext cx="1523880" cy="15242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5867280" y="3505320"/>
            <a:ext cx="1295640" cy="45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1836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alanced Di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14800" y="5029200"/>
            <a:ext cx="1219320" cy="43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Quit Smo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3505320"/>
            <a:ext cx="1143000" cy="43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hysicalA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1760" y="1676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3300"/>
                </a:solidFill>
                <a:latin typeface="Times New Roman"/>
              </a:rPr>
              <a:t>2.  Strengthen C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ommunity 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38080" y="2514600"/>
            <a:ext cx="7467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Government, non-governmental organizations, district bodies, business sector, health professionals and academia, mass media and volunteers to take the lead in forming a social trend to adopt a healthy lifesty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2640" y="914400"/>
            <a:ext cx="655308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Community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23880" y="48006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-838080" y="2743200"/>
            <a:ext cx="19047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38862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3276720" y="2286000"/>
            <a:ext cx="1752480" cy="13701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3352680" y="4038480"/>
            <a:ext cx="1676520" cy="124632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609480" y="2362320"/>
            <a:ext cx="215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Health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42120" y="426564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Food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86400" y="43434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ss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34120" y="3276720"/>
            <a:ext cx="20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Volunteer partici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315200" y="274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562720" y="22860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Local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160" y="16761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66ff"/>
                </a:solidFill>
                <a:latin typeface="Times New Roman"/>
              </a:rPr>
              <a:t> </a:t>
            </a:r>
            <a:r>
              <a:rPr b="1" lang="zh-TW" sz="4000" spc="-1" strike="noStrike">
                <a:solidFill>
                  <a:srgbClr val="3333cc"/>
                </a:solidFill>
                <a:latin typeface="Times New Roman"/>
              </a:rPr>
              <a:t>3.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reate Supportive Environment</a:t>
            </a:r>
            <a:br>
              <a:rPr sz="4000"/>
            </a:b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2120" y="251460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Housing, Transport, Planning sectors to provide a friendly living environment for the older persons and people in need which is conducive to building a social trend that encourages a healthy lifesty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3809880" y="2286000"/>
            <a:ext cx="1524240" cy="1357200"/>
          </a:xfrm>
          <a:prstGeom prst="rect">
            <a:avLst/>
          </a:prstGeom>
          <a:ln w="0">
            <a:noFill/>
          </a:ln>
        </p:spPr>
      </p:pic>
      <p:pic>
        <p:nvPicPr>
          <p:cNvPr id="355" name="Cob026" descr=""/>
          <p:cNvPicPr/>
          <p:nvPr/>
        </p:nvPicPr>
        <p:blipFill>
          <a:blip r:embed="rId3"/>
          <a:stretch/>
        </p:blipFill>
        <p:spPr>
          <a:xfrm>
            <a:off x="990720" y="4343400"/>
            <a:ext cx="838080" cy="6984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685800" y="1066680"/>
            <a:ext cx="7391520" cy="58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Supportive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666880" y="33526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22096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Adequate features and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1828800" y="3124080"/>
            <a:ext cx="2247840" cy="20862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6172200" y="44197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School curricu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3809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Family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7220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1320" y="2286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371600" y="1066680"/>
            <a:ext cx="6477120" cy="4870440"/>
            <a:chOff x="1371600" y="1066680"/>
            <a:chExt cx="6477120" cy="4870440"/>
          </a:xfrm>
        </p:grpSpPr>
        <p:graphicFrame>
          <p:nvGraphicFramePr>
            <p:cNvPr id="54" name=""/>
            <p:cNvGraphicFramePr/>
            <p:nvPr/>
          </p:nvGraphicFramePr>
          <p:xfrm>
            <a:off x="1371600" y="1066680"/>
            <a:ext cx="6477120" cy="4870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1600" y="1066680"/>
                      <a:ext cx="6477120" cy="487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" name=""/>
            <p:cNvSpPr/>
            <p:nvPr/>
          </p:nvSpPr>
          <p:spPr>
            <a:xfrm>
              <a:off x="3723120" y="4416120"/>
              <a:ext cx="203400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cc3300"/>
                  </a:solidFill>
                  <a:latin typeface="Times New Roman"/>
                </a:rPr>
                <a:t>Welcome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ICT030" descr=""/>
            <p:cNvPicPr/>
            <p:nvPr/>
          </p:nvPicPr>
          <p:blipFill>
            <a:blip r:embed="rId3"/>
            <a:stretch/>
          </p:blipFill>
          <p:spPr>
            <a:xfrm>
              <a:off x="3505320" y="1977840"/>
              <a:ext cx="2462040" cy="2207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8000"/>
                </a:solidFill>
                <a:latin typeface="Times New Roman"/>
              </a:rPr>
              <a:t>4. 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Promote Image of Age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90720" y="2438280"/>
            <a:ext cx="7467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To promote positive perception of ageing and support older persons to lead an active life by pursuing lifelong learning and active engagement in paid or voluntary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6782040" cy="762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Older Persons - A societal as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733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6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Promote self-image of older per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spcBef>
                <a:spcPts val="1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Lead an active life</a:t>
            </a:r>
            <a:r>
              <a:rPr b="1" lang="zh-TW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spcBef>
                <a:spcPts val="1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Continue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3276720" y="4267080"/>
            <a:ext cx="2438280" cy="14763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4876920" y="1905120"/>
            <a:ext cx="38862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Combat discriminatory attitudes and bi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6666ff"/>
                </a:solidFill>
                <a:latin typeface="Times New Roman"/>
              </a:rPr>
              <a:t>Mass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6666ff"/>
                </a:solidFill>
                <a:latin typeface="Times New Roman"/>
              </a:rPr>
              <a:t>Public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33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IV. 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: 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NOW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18600" y="4168800"/>
            <a:ext cx="6898680" cy="58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TOTAL LIFE-COURSE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47560" y="990720"/>
            <a:ext cx="6172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Individual &amp; Community Partn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676520" y="1908000"/>
            <a:ext cx="5456160" cy="4035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74" name=""/>
          <p:cNvSpPr/>
          <p:nvPr/>
        </p:nvSpPr>
        <p:spPr>
          <a:xfrm>
            <a:off x="1828800" y="2057400"/>
            <a:ext cx="20574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al Respo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029200" y="2057400"/>
            <a:ext cx="19051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unity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828800" y="4800600"/>
            <a:ext cx="20574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ive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181480" y="4724280"/>
            <a:ext cx="17528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mote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657600" y="3429000"/>
            <a:ext cx="167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Physical &amp; Psychosocial Well-be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352680" y="3124080"/>
            <a:ext cx="45720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5257800" y="3048120"/>
            <a:ext cx="45720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3352680" y="4266720"/>
            <a:ext cx="533520" cy="381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5181480" y="4191120"/>
            <a:ext cx="609840" cy="304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828800" y="48769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Healthy Ageing Resource Cen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http://www.healthyageing.gov.h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bus-healthyageing" descr=""/>
          <p:cNvPicPr/>
          <p:nvPr/>
        </p:nvPicPr>
        <p:blipFill>
          <a:blip r:embed="rId2"/>
          <a:stretch/>
        </p:blipFill>
        <p:spPr>
          <a:xfrm>
            <a:off x="1752480" y="2362320"/>
            <a:ext cx="5639040" cy="20937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600200" y="19051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細明體"/>
              </a:rPr>
              <a:t>Healthy Ageing for all</a:t>
            </a:r>
            <a:r>
              <a:rPr b="1" i="1" lang="zh-TW" sz="2800" spc="-1" strike="noStrike">
                <a:solidFill>
                  <a:srgbClr val="cc0000"/>
                </a:solidFill>
                <a:latin typeface="細明體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914400" y="6248520"/>
            <a:ext cx="762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he copyright of this presentation material belongs to the Elderly Commission.  The first version was completed in December 2001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09320" y="2437920"/>
            <a:ext cx="63248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WH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PARTICI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CTION 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Times New Roman"/>
              </a:rPr>
              <a:t>I.  </a:t>
            </a:r>
            <a:r>
              <a:rPr b="1" lang="en-US" sz="4400" spc="-1" strike="noStrike">
                <a:solidFill>
                  <a:srgbClr val="9966ff"/>
                </a:solidFill>
                <a:latin typeface="Times New Roman"/>
              </a:rPr>
              <a:t>W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3200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Times New Roman"/>
              </a:rPr>
              <a:t>New challenges related to age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3120" y="653760"/>
            <a:ext cx="757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Changes in Life Expectancy</a:t>
            </a:r>
            <a:r>
              <a:rPr b="1" lang="zh-TW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066680" y="1676520"/>
          <a:ext cx="7162920" cy="44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6520"/>
                    <a:ext cx="7162920" cy="44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04920" y="6288120"/>
            <a:ext cx="6781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ource: Hong Kong Census and Statistics Department Projected Population 1999-20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Population of Older Persons</a:t>
            </a: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(65 years or older)</a:t>
            </a: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62485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Year 1971</a:t>
            </a:r>
            <a:r>
              <a:rPr b="0" lang="zh-TW" sz="3200" spc="-1" strike="noStrike">
                <a:solidFill>
                  <a:srgbClr val="008000"/>
                </a:solidFill>
                <a:latin typeface="Times New Roman"/>
              </a:rPr>
              <a:t>       182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,300</a:t>
            </a:r>
            <a:r>
              <a:rPr b="0" lang="zh-TW" sz="3200" spc="-1" strike="noStrike">
                <a:solidFill>
                  <a:srgbClr val="008000"/>
                </a:solidFill>
                <a:latin typeface="Times New Roman"/>
              </a:rPr>
              <a:t>   (4.5 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Year 1981</a:t>
            </a:r>
            <a:r>
              <a:rPr b="0" lang="zh-TW" sz="3200" spc="-1" strike="noStrike">
                <a:solidFill>
                  <a:srgbClr val="008000"/>
                </a:solidFill>
                <a:latin typeface="Times New Roman"/>
              </a:rPr>
              <a:t>       344,300   (6.6 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Year 1991</a:t>
            </a:r>
            <a:r>
              <a:rPr b="0" lang="zh-TW" sz="3200" spc="-1" strike="noStrike">
                <a:solidFill>
                  <a:srgbClr val="008000"/>
                </a:solidFill>
                <a:latin typeface="Times New Roman"/>
              </a:rPr>
              <a:t>       502,400   (8.7 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Year 2001</a:t>
            </a:r>
            <a:r>
              <a:rPr b="0" lang="zh-TW" sz="3200" spc="-1" strike="noStrike">
                <a:solidFill>
                  <a:srgbClr val="008000"/>
                </a:solidFill>
                <a:latin typeface="Times New Roman"/>
              </a:rPr>
              <a:t>       759,200   (11.2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Year 2021    </a:t>
            </a:r>
            <a:r>
              <a:rPr b="0" lang="zh-TW" sz="3200" spc="-1" strike="noStrike">
                <a:solidFill>
                  <a:srgbClr val="008000"/>
                </a:solidFill>
                <a:latin typeface="Times New Roman"/>
              </a:rPr>
              <a:t>1,322,500   (15.7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8000"/>
                </a:solidFill>
                <a:latin typeface="Times New Roman"/>
              </a:rPr>
              <a:t>Year 2029    1,792,000   (19.8%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6324480"/>
            <a:ext cx="624852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"/>
              </a:rPr>
              <a:t>Source: Hong Kong Census and Statistics Department Projected Population 1999-20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88560" y="5999040"/>
            <a:ext cx="8660520" cy="382320"/>
            <a:chOff x="88560" y="5999040"/>
            <a:chExt cx="8660520" cy="382320"/>
          </a:xfrm>
        </p:grpSpPr>
        <p:sp>
          <p:nvSpPr>
            <p:cNvPr id="70" name=""/>
            <p:cNvSpPr/>
            <p:nvPr/>
          </p:nvSpPr>
          <p:spPr>
            <a:xfrm>
              <a:off x="4936320" y="601596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ffff"/>
                  </a:solidFill>
                  <a:latin typeface="新細明體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637240" y="601596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ffff"/>
                  </a:solidFill>
                  <a:latin typeface="新細明體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432480" y="601596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ffff"/>
                  </a:solidFill>
                  <a:latin typeface="新細明體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226280" y="601596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ffff"/>
                  </a:solidFill>
                  <a:latin typeface="新細明體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021880" y="601596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ffff"/>
                  </a:solidFill>
                  <a:latin typeface="新細明體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748720" y="601596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4182480" y="599904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ffff"/>
                  </a:solidFill>
                  <a:latin typeface="新細明體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3046320" y="599904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ffff"/>
                  </a:solidFill>
                  <a:latin typeface="新細明體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2232000" y="599904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ffff"/>
                  </a:solidFill>
                  <a:latin typeface="新細明體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1417680" y="599904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ffff"/>
                  </a:solidFill>
                  <a:latin typeface="新細明體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603000" y="599904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ffff"/>
                  </a:solidFill>
                  <a:latin typeface="新細明體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88200" y="599904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0" y="1447920"/>
            <a:ext cx="8767440" cy="4431240"/>
            <a:chOff x="0" y="1447920"/>
            <a:chExt cx="8767440" cy="4431240"/>
          </a:xfrm>
        </p:grpSpPr>
        <p:sp>
          <p:nvSpPr>
            <p:cNvPr id="83" name=""/>
            <p:cNvSpPr/>
            <p:nvPr/>
          </p:nvSpPr>
          <p:spPr>
            <a:xfrm flipH="1" flipV="1">
              <a:off x="4087800" y="544500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4087800" y="1965240"/>
              <a:ext cx="1440" cy="3564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95560" y="1465200"/>
              <a:ext cx="3970440" cy="4395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5560" y="1465200"/>
              <a:ext cx="3970440" cy="4395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4790880" y="1465200"/>
              <a:ext cx="2549160" cy="4395600"/>
              <a:chOff x="4790880" y="1465200"/>
              <a:chExt cx="2549160" cy="4395600"/>
            </a:xfrm>
          </p:grpSpPr>
          <p:sp>
            <p:nvSpPr>
              <p:cNvPr id="88" name=""/>
              <p:cNvSpPr/>
              <p:nvPr/>
            </p:nvSpPr>
            <p:spPr>
              <a:xfrm>
                <a:off x="4795560" y="5615280"/>
                <a:ext cx="1292040" cy="245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795560" y="5369760"/>
                <a:ext cx="1686960" cy="245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795560" y="5123880"/>
                <a:ext cx="1790280" cy="245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795560" y="4878360"/>
                <a:ext cx="1865880" cy="245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795560" y="4645080"/>
                <a:ext cx="1807200" cy="232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795560" y="4399560"/>
                <a:ext cx="1882440" cy="245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795560" y="4153680"/>
                <a:ext cx="2098080" cy="245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795560" y="3908520"/>
                <a:ext cx="2532600" cy="245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795560" y="3663000"/>
                <a:ext cx="2544480" cy="245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795560" y="3417480"/>
                <a:ext cx="2121480" cy="245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795560" y="3171600"/>
                <a:ext cx="1680120" cy="245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795560" y="2926080"/>
                <a:ext cx="1141560" cy="245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795560" y="2680200"/>
                <a:ext cx="1066680" cy="245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795560" y="2447280"/>
                <a:ext cx="1014840" cy="232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795560" y="2201400"/>
                <a:ext cx="782280" cy="245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795560" y="1955880"/>
                <a:ext cx="509760" cy="245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794120" y="1710720"/>
                <a:ext cx="277200" cy="245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790880" y="1465200"/>
                <a:ext cx="173880" cy="245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4795560" y="5861160"/>
              <a:ext cx="39704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5589360" y="5757480"/>
              <a:ext cx="0" cy="1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384600" y="5757480"/>
              <a:ext cx="0" cy="1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7178400" y="5757480"/>
              <a:ext cx="0" cy="1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7972200" y="5757480"/>
              <a:ext cx="1800" cy="1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8766000" y="5757480"/>
              <a:ext cx="1440" cy="1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4183920" y="1447920"/>
              <a:ext cx="597960" cy="4431240"/>
              <a:chOff x="4183920" y="1447920"/>
              <a:chExt cx="597960" cy="4431240"/>
            </a:xfrm>
          </p:grpSpPr>
          <p:sp>
            <p:nvSpPr>
              <p:cNvPr id="113" name=""/>
              <p:cNvSpPr/>
              <p:nvPr/>
            </p:nvSpPr>
            <p:spPr>
              <a:xfrm>
                <a:off x="4345200" y="5604480"/>
                <a:ext cx="335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0-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345200" y="5365080"/>
                <a:ext cx="335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5-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183920" y="511560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10-1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183920" y="487404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15-1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183920" y="462852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20-2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183920" y="438264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24-2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183920" y="413712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30-3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183920" y="388908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35-3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183920" y="364356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40-4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183920" y="341496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45-4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183920" y="316692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50-5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183920" y="292104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55-5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183920" y="267372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60-6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183920" y="243036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996633"/>
                    </a:solidFill>
                    <a:latin typeface="新細明體"/>
                  </a:rPr>
                  <a:t>65-6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183920" y="218484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996633"/>
                    </a:solidFill>
                    <a:latin typeface="新細明體"/>
                  </a:rPr>
                  <a:t>70-7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183920" y="193896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996633"/>
                    </a:solidFill>
                    <a:latin typeface="新細明體"/>
                  </a:rPr>
                  <a:t>75-7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83920" y="169344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996633"/>
                    </a:solidFill>
                    <a:latin typeface="新細明體"/>
                  </a:rPr>
                  <a:t>80-8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265640" y="144792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996633"/>
                    </a:solidFill>
                    <a:latin typeface="新細明體"/>
                  </a:rPr>
                  <a:t>85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 flipH="1">
              <a:off x="0" y="1465200"/>
              <a:ext cx="4071600" cy="4381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0" y="1465200"/>
              <a:ext cx="4071600" cy="4381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963000" y="1465200"/>
              <a:ext cx="3108240" cy="4381200"/>
              <a:chOff x="963000" y="1465200"/>
              <a:chExt cx="3108240" cy="4381200"/>
            </a:xfrm>
          </p:grpSpPr>
          <p:sp>
            <p:nvSpPr>
              <p:cNvPr id="134" name=""/>
              <p:cNvSpPr/>
              <p:nvPr/>
            </p:nvSpPr>
            <p:spPr>
              <a:xfrm flipH="1">
                <a:off x="2829240" y="5602680"/>
                <a:ext cx="1242000" cy="243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2454840" y="5357160"/>
                <a:ext cx="1616400" cy="245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2323440" y="5111280"/>
                <a:ext cx="1747080" cy="245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2247480" y="4868280"/>
                <a:ext cx="1823760" cy="243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2311920" y="4634640"/>
                <a:ext cx="1758600" cy="233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1854000" y="4391640"/>
                <a:ext cx="2216520" cy="243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1318680" y="4145760"/>
                <a:ext cx="2751480" cy="245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962640" y="3900240"/>
                <a:ext cx="3107880" cy="245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1242000" y="3656520"/>
                <a:ext cx="2828520" cy="243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1818720" y="3410640"/>
                <a:ext cx="2251800" cy="245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2431080" y="3167640"/>
                <a:ext cx="1640160" cy="243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3048120" y="2921760"/>
                <a:ext cx="1023120" cy="245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3060720" y="2676240"/>
                <a:ext cx="1009800" cy="245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3035520" y="2445120"/>
                <a:ext cx="1035000" cy="2307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3184560" y="2199600"/>
                <a:ext cx="885960" cy="245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3405960" y="1955880"/>
                <a:ext cx="665280" cy="243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3655080" y="1710720"/>
                <a:ext cx="416160" cy="245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3713400" y="1465200"/>
                <a:ext cx="357840" cy="245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 flipH="1">
              <a:off x="0" y="5846760"/>
              <a:ext cx="40716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626840" y="5741640"/>
              <a:ext cx="0" cy="1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0" y="5741640"/>
              <a:ext cx="0" cy="1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4022640" y="5846760"/>
              <a:ext cx="48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4022640" y="5602320"/>
              <a:ext cx="48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4022640" y="5356080"/>
              <a:ext cx="48960" cy="3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022640" y="5111640"/>
              <a:ext cx="489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4022640" y="4868640"/>
              <a:ext cx="489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022640" y="4635360"/>
              <a:ext cx="489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4022640" y="4390920"/>
              <a:ext cx="489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022640" y="4145040"/>
              <a:ext cx="48960" cy="4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4022640" y="3902040"/>
              <a:ext cx="48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4022640" y="3657600"/>
              <a:ext cx="48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4022640" y="3411360"/>
              <a:ext cx="489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4022640" y="3168720"/>
              <a:ext cx="48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022640" y="2922480"/>
              <a:ext cx="489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022640" y="2676600"/>
              <a:ext cx="48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4022640" y="2446200"/>
              <a:ext cx="489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022640" y="2200320"/>
              <a:ext cx="48960" cy="3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022640" y="1957320"/>
              <a:ext cx="48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4022640" y="1711440"/>
              <a:ext cx="48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4022640" y="1465200"/>
              <a:ext cx="48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3256920" y="5747760"/>
              <a:ext cx="1800" cy="101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2442960" y="5739840"/>
              <a:ext cx="0" cy="1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811080" y="5741640"/>
              <a:ext cx="0" cy="1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733920" y="62866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Population</a:t>
            </a: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(‘00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011080" y="162720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1320" y="156996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Fe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53352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Hong Kong</a:t>
            </a: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：</a:t>
            </a: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Year 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6637320"/>
            <a:ext cx="7162560" cy="2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"/>
              </a:rPr>
              <a:t>Source: Hong Kong Census and Statistics Department Projected Population  1999-20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8125560" y="139860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2400" y="139212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Fe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53352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Hong Kong: Year </a:t>
            </a:r>
            <a:r>
              <a:rPr b="1" lang="zh-TW" sz="4400" spc="-1" strike="noStrike">
                <a:solidFill>
                  <a:srgbClr val="cc3300"/>
                </a:solidFill>
                <a:latin typeface="Times New Roman"/>
              </a:rPr>
              <a:t>20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0" y="1447920"/>
            <a:ext cx="8654760" cy="4852800"/>
            <a:chOff x="0" y="1447920"/>
            <a:chExt cx="8654760" cy="4852800"/>
          </a:xfrm>
        </p:grpSpPr>
        <p:grpSp>
          <p:nvGrpSpPr>
            <p:cNvPr id="186" name=""/>
            <p:cNvGrpSpPr/>
            <p:nvPr/>
          </p:nvGrpSpPr>
          <p:grpSpPr>
            <a:xfrm>
              <a:off x="4745880" y="6026040"/>
              <a:ext cx="3728520" cy="274680"/>
              <a:chOff x="4745880" y="6026040"/>
              <a:chExt cx="3728520" cy="274680"/>
            </a:xfrm>
          </p:grpSpPr>
          <p:sp>
            <p:nvSpPr>
              <p:cNvPr id="187" name=""/>
              <p:cNvSpPr/>
              <p:nvPr/>
            </p:nvSpPr>
            <p:spPr>
              <a:xfrm>
                <a:off x="4745880" y="6026040"/>
                <a:ext cx="13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ffffff"/>
                    </a:solidFill>
                    <a:latin typeface="新細明體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419800" y="602604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ffffff"/>
                    </a:solidFill>
                    <a:latin typeface="新細明體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189840" y="602604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ffffff"/>
                    </a:solidFill>
                    <a:latin typeface="新細明體"/>
                  </a:rPr>
                  <a:t>2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961320" y="602604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ffffff"/>
                    </a:solidFill>
                    <a:latin typeface="新細明體"/>
                  </a:rPr>
                  <a:t>3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732800" y="602604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ffffff"/>
                    </a:solidFill>
                    <a:latin typeface="新細明體"/>
                  </a:rPr>
                  <a:t>4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474040" y="6026040"/>
                <a:ext cx="3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25200" y="6016320"/>
              <a:ext cx="3917160" cy="274680"/>
              <a:chOff x="25200" y="6016320"/>
              <a:chExt cx="3917160" cy="274680"/>
            </a:xfrm>
          </p:grpSpPr>
          <p:sp>
            <p:nvSpPr>
              <p:cNvPr id="194" name=""/>
              <p:cNvSpPr/>
              <p:nvPr/>
            </p:nvSpPr>
            <p:spPr>
              <a:xfrm flipH="1">
                <a:off x="24840" y="6016320"/>
                <a:ext cx="3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685800" y="601632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ffffff"/>
                    </a:solidFill>
                    <a:latin typeface="新細明體"/>
                  </a:rPr>
                  <a:t>4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1466640" y="601632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ffffff"/>
                    </a:solidFill>
                    <a:latin typeface="新細明體"/>
                  </a:rPr>
                  <a:t>3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2239920" y="601632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ffffff"/>
                    </a:solidFill>
                    <a:latin typeface="新細明體"/>
                  </a:rPr>
                  <a:t>2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3012840" y="601632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ffffff"/>
                    </a:solidFill>
                    <a:latin typeface="新細明體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3810600" y="6016320"/>
                <a:ext cx="13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ffffff"/>
                    </a:solidFill>
                    <a:latin typeface="新細明體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4721400" y="1463400"/>
              <a:ext cx="3933360" cy="4382640"/>
              <a:chOff x="4721400" y="1463400"/>
              <a:chExt cx="3933360" cy="4382640"/>
            </a:xfrm>
          </p:grpSpPr>
          <p:sp>
            <p:nvSpPr>
              <p:cNvPr id="201" name=""/>
              <p:cNvSpPr/>
              <p:nvPr/>
            </p:nvSpPr>
            <p:spPr>
              <a:xfrm>
                <a:off x="4721400" y="1463400"/>
                <a:ext cx="3931560" cy="4380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721400" y="1463400"/>
                <a:ext cx="3931560" cy="4380480"/>
              </a:xfrm>
              <a:prstGeom prst="rect">
                <a:avLst/>
              </a:prstGeom>
              <a:noFill/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4721400" y="1463400"/>
                <a:ext cx="2735280" cy="4380120"/>
                <a:chOff x="4721400" y="1463400"/>
                <a:chExt cx="2735280" cy="438012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4721400" y="5597280"/>
                  <a:ext cx="1866240" cy="246240"/>
                </a:xfrm>
                <a:prstGeom prst="rect">
                  <a:avLst/>
                </a:prstGeom>
                <a:solidFill>
                  <a:srgbClr val="00cc99"/>
                </a:solidFill>
                <a:ln w="79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721400" y="5360760"/>
                  <a:ext cx="2007000" cy="236160"/>
                </a:xfrm>
                <a:prstGeom prst="rect">
                  <a:avLst/>
                </a:prstGeom>
                <a:solidFill>
                  <a:srgbClr val="00cc99"/>
                </a:solidFill>
                <a:ln w="79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721400" y="5114520"/>
                  <a:ext cx="2082960" cy="246240"/>
                </a:xfrm>
                <a:prstGeom prst="rect">
                  <a:avLst/>
                </a:prstGeom>
                <a:solidFill>
                  <a:srgbClr val="00cc99"/>
                </a:solidFill>
                <a:ln w="79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721400" y="4866480"/>
                  <a:ext cx="1990800" cy="248040"/>
                </a:xfrm>
                <a:prstGeom prst="rect">
                  <a:avLst/>
                </a:prstGeom>
                <a:solidFill>
                  <a:srgbClr val="00cc99"/>
                </a:solidFill>
                <a:ln w="79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721400" y="4631760"/>
                  <a:ext cx="1856520" cy="234360"/>
                </a:xfrm>
                <a:prstGeom prst="rect">
                  <a:avLst/>
                </a:prstGeom>
                <a:solidFill>
                  <a:srgbClr val="00cc99"/>
                </a:solidFill>
                <a:ln w="79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721400" y="4383720"/>
                  <a:ext cx="2025000" cy="248040"/>
                </a:xfrm>
                <a:prstGeom prst="rect">
                  <a:avLst/>
                </a:prstGeom>
                <a:solidFill>
                  <a:srgbClr val="00cc99"/>
                </a:solidFill>
                <a:ln w="79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721400" y="4135320"/>
                  <a:ext cx="2400480" cy="248040"/>
                </a:xfrm>
                <a:prstGeom prst="rect">
                  <a:avLst/>
                </a:prstGeom>
                <a:solidFill>
                  <a:srgbClr val="00cc99"/>
                </a:solidFill>
                <a:ln w="79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721400" y="3900960"/>
                  <a:ext cx="2735280" cy="234360"/>
                </a:xfrm>
                <a:prstGeom prst="rect">
                  <a:avLst/>
                </a:prstGeom>
                <a:solidFill>
                  <a:srgbClr val="00cc99"/>
                </a:solidFill>
                <a:ln w="79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721400" y="3654720"/>
                  <a:ext cx="2685240" cy="246240"/>
                </a:xfrm>
                <a:prstGeom prst="rect">
                  <a:avLst/>
                </a:prstGeom>
                <a:solidFill>
                  <a:srgbClr val="00cc99"/>
                </a:solidFill>
                <a:ln w="79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721400" y="3406320"/>
                  <a:ext cx="2593080" cy="248040"/>
                </a:xfrm>
                <a:prstGeom prst="rect">
                  <a:avLst/>
                </a:prstGeom>
                <a:solidFill>
                  <a:srgbClr val="00cc99"/>
                </a:solidFill>
                <a:ln w="79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21400" y="3171960"/>
                  <a:ext cx="2317680" cy="234360"/>
                </a:xfrm>
                <a:prstGeom prst="rect">
                  <a:avLst/>
                </a:prstGeom>
                <a:solidFill>
                  <a:srgbClr val="00cc99"/>
                </a:solidFill>
                <a:ln w="79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721400" y="2923560"/>
                  <a:ext cx="2107440" cy="248040"/>
                </a:xfrm>
                <a:prstGeom prst="rect">
                  <a:avLst/>
                </a:prstGeom>
                <a:solidFill>
                  <a:srgbClr val="00cc99"/>
                </a:solidFill>
                <a:ln w="79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721400" y="2675160"/>
                  <a:ext cx="2167200" cy="248400"/>
                </a:xfrm>
                <a:prstGeom prst="rect">
                  <a:avLst/>
                </a:prstGeom>
                <a:solidFill>
                  <a:srgbClr val="00cc99"/>
                </a:solidFill>
                <a:ln w="79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721400" y="2440800"/>
                  <a:ext cx="2225520" cy="234000"/>
                </a:xfrm>
                <a:prstGeom prst="rect">
                  <a:avLst/>
                </a:prstGeom>
                <a:solidFill>
                  <a:srgbClr val="00cc99"/>
                </a:solidFill>
                <a:ln w="79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721400" y="2192400"/>
                  <a:ext cx="1815840" cy="248400"/>
                </a:xfrm>
                <a:prstGeom prst="rect">
                  <a:avLst/>
                </a:prstGeom>
                <a:solidFill>
                  <a:srgbClr val="00cc99"/>
                </a:solidFill>
                <a:ln w="79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721400" y="1945800"/>
                  <a:ext cx="1230120" cy="246240"/>
                </a:xfrm>
                <a:prstGeom prst="rect">
                  <a:avLst/>
                </a:prstGeom>
                <a:solidFill>
                  <a:srgbClr val="00cc99"/>
                </a:solidFill>
                <a:ln w="79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4721400" y="1709640"/>
                  <a:ext cx="694440" cy="236160"/>
                </a:xfrm>
                <a:prstGeom prst="rect">
                  <a:avLst/>
                </a:prstGeom>
                <a:solidFill>
                  <a:srgbClr val="00cc99"/>
                </a:solidFill>
                <a:ln w="79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721400" y="1463400"/>
                  <a:ext cx="469440" cy="246240"/>
                </a:xfrm>
                <a:prstGeom prst="rect">
                  <a:avLst/>
                </a:prstGeom>
                <a:solidFill>
                  <a:srgbClr val="00cc99"/>
                </a:solidFill>
                <a:ln w="79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2" name=""/>
              <p:cNvSpPr/>
              <p:nvPr/>
            </p:nvSpPr>
            <p:spPr>
              <a:xfrm>
                <a:off x="4721400" y="5843880"/>
                <a:ext cx="3931560" cy="216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4721400" y="5781240"/>
                <a:ext cx="1800" cy="6264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5508000" y="5781240"/>
                <a:ext cx="1800" cy="6264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6294600" y="5781240"/>
                <a:ext cx="1800" cy="6264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7079760" y="5781240"/>
                <a:ext cx="1800" cy="6264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7866360" y="5781240"/>
                <a:ext cx="1800" cy="6264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8652960" y="5781240"/>
                <a:ext cx="1800" cy="6264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721400" y="1463400"/>
                <a:ext cx="1800" cy="438048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721400" y="5843880"/>
                <a:ext cx="42120" cy="216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721400" y="5597280"/>
                <a:ext cx="42120" cy="216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721400" y="5361120"/>
                <a:ext cx="42120" cy="216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721400" y="5114880"/>
                <a:ext cx="42120" cy="216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721400" y="4866480"/>
                <a:ext cx="42120" cy="180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721400" y="4632120"/>
                <a:ext cx="42120" cy="216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721400" y="4383720"/>
                <a:ext cx="42120" cy="180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721400" y="4135680"/>
                <a:ext cx="42120" cy="180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721400" y="3900960"/>
                <a:ext cx="42120" cy="180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721400" y="3654720"/>
                <a:ext cx="42120" cy="180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721400" y="3406320"/>
                <a:ext cx="42120" cy="180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721400" y="3171960"/>
                <a:ext cx="42120" cy="216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721400" y="2923560"/>
                <a:ext cx="42120" cy="180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721400" y="2675160"/>
                <a:ext cx="42120" cy="216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721400" y="2441160"/>
                <a:ext cx="42120" cy="180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721400" y="2192400"/>
                <a:ext cx="42120" cy="216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721400" y="1945800"/>
                <a:ext cx="42120" cy="216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721400" y="1709640"/>
                <a:ext cx="42120" cy="216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721400" y="1463400"/>
                <a:ext cx="42120" cy="216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4054680" y="1447920"/>
              <a:ext cx="597960" cy="4406760"/>
              <a:chOff x="4054680" y="1447920"/>
              <a:chExt cx="597960" cy="4406760"/>
            </a:xfrm>
          </p:grpSpPr>
          <p:sp>
            <p:nvSpPr>
              <p:cNvPr id="250" name=""/>
              <p:cNvSpPr/>
              <p:nvPr/>
            </p:nvSpPr>
            <p:spPr>
              <a:xfrm>
                <a:off x="4225680" y="5580000"/>
                <a:ext cx="335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0-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225680" y="5331240"/>
                <a:ext cx="335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5-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054680" y="509724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10-1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054680" y="484668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15-1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054680" y="460224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20-2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054680" y="436824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24-2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054680" y="412200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30-3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054680" y="387324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35-3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054680" y="363744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40-4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054680" y="339084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45-4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054680" y="314460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50-5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054680" y="290412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55-5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054680" y="266364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60-6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054680" y="241560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cc6600"/>
                    </a:solidFill>
                    <a:latin typeface="新細明體"/>
                  </a:rPr>
                  <a:t>65-6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054680" y="217692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cc6600"/>
                    </a:solidFill>
                    <a:latin typeface="新細明體"/>
                  </a:rPr>
                  <a:t>70-7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054680" y="192852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cc6600"/>
                    </a:solidFill>
                    <a:latin typeface="新細明體"/>
                  </a:rPr>
                  <a:t>75-7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054680" y="168408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cc6600"/>
                    </a:solidFill>
                    <a:latin typeface="新細明體"/>
                  </a:rPr>
                  <a:t>80-8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188600" y="144792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cc6600"/>
                    </a:solidFill>
                    <a:latin typeface="新細明體"/>
                  </a:rPr>
                  <a:t>85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0" y="1458720"/>
              <a:ext cx="3947760" cy="4379400"/>
              <a:chOff x="0" y="1458720"/>
              <a:chExt cx="3947760" cy="4379400"/>
            </a:xfrm>
          </p:grpSpPr>
          <p:sp>
            <p:nvSpPr>
              <p:cNvPr id="269" name=""/>
              <p:cNvSpPr/>
              <p:nvPr/>
            </p:nvSpPr>
            <p:spPr>
              <a:xfrm flipH="1">
                <a:off x="1440" y="1458720"/>
                <a:ext cx="3946320" cy="43776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1440" y="1458720"/>
                <a:ext cx="3946320" cy="43776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1" name=""/>
              <p:cNvGrpSpPr/>
              <p:nvPr/>
            </p:nvGrpSpPr>
            <p:grpSpPr>
              <a:xfrm>
                <a:off x="1119960" y="1458720"/>
                <a:ext cx="2827440" cy="4377240"/>
                <a:chOff x="1119960" y="1458720"/>
                <a:chExt cx="2827440" cy="4377240"/>
              </a:xfrm>
            </p:grpSpPr>
            <p:sp>
              <p:nvSpPr>
                <p:cNvPr id="272" name=""/>
                <p:cNvSpPr/>
                <p:nvPr/>
              </p:nvSpPr>
              <p:spPr>
                <a:xfrm flipH="1">
                  <a:off x="2204280" y="5593320"/>
                  <a:ext cx="1743120" cy="2426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>
                  <a:off x="2080800" y="5351040"/>
                  <a:ext cx="1865880" cy="2422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2016000" y="5108760"/>
                  <a:ext cx="1930680" cy="2422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>
                  <a:off x="2088720" y="4866120"/>
                  <a:ext cx="1857960" cy="2422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875960" y="4623840"/>
                  <a:ext cx="2071440" cy="2422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H="1">
                  <a:off x="1480320" y="4381560"/>
                  <a:ext cx="2466360" cy="2422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H="1">
                  <a:off x="1135440" y="4138920"/>
                  <a:ext cx="2811240" cy="2426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H="1">
                  <a:off x="1119600" y="3896640"/>
                  <a:ext cx="2827080" cy="2422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1374120" y="3639960"/>
                  <a:ext cx="2573280" cy="256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H="1">
                  <a:off x="1621800" y="3397680"/>
                  <a:ext cx="2325600" cy="2422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H="1">
                  <a:off x="2088720" y="3155400"/>
                  <a:ext cx="1857960" cy="2422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2070720" y="2913120"/>
                  <a:ext cx="1875960" cy="2422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1785240" y="2670480"/>
                  <a:ext cx="2162160" cy="2422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1515240" y="2427840"/>
                  <a:ext cx="2432160" cy="2426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1818720" y="2185560"/>
                  <a:ext cx="2127960" cy="2422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H="1">
                  <a:off x="2393280" y="1943280"/>
                  <a:ext cx="1553400" cy="2422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H="1">
                  <a:off x="3058920" y="1701000"/>
                  <a:ext cx="888480" cy="2422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3270240" y="1458720"/>
                  <a:ext cx="676440" cy="2422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0" name=""/>
              <p:cNvSpPr/>
              <p:nvPr/>
            </p:nvSpPr>
            <p:spPr>
              <a:xfrm flipH="1">
                <a:off x="1440" y="5836320"/>
                <a:ext cx="394632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 flipV="1">
                <a:off x="3946320" y="5775120"/>
                <a:ext cx="144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 flipV="1">
                <a:off x="3156480" y="5775120"/>
                <a:ext cx="144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 flipV="1">
                <a:off x="788400" y="5775120"/>
                <a:ext cx="144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flipV="1">
                <a:off x="0" y="5775120"/>
                <a:ext cx="144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3946320" y="1458720"/>
                <a:ext cx="1440" cy="4377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906000" y="5836320"/>
                <a:ext cx="4176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906000" y="5593680"/>
                <a:ext cx="41760" cy="2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3906000" y="5351040"/>
                <a:ext cx="41760" cy="2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3906000" y="5108760"/>
                <a:ext cx="4176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3906000" y="4866480"/>
                <a:ext cx="4176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3906000" y="4624200"/>
                <a:ext cx="4176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3906000" y="4381920"/>
                <a:ext cx="4176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3906000" y="4138920"/>
                <a:ext cx="41760" cy="2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906000" y="3896640"/>
                <a:ext cx="41760" cy="2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3906000" y="3639960"/>
                <a:ext cx="41760" cy="2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3906000" y="3397680"/>
                <a:ext cx="4176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3906000" y="3155400"/>
                <a:ext cx="4176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3906000" y="2913120"/>
                <a:ext cx="4176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3906000" y="2670840"/>
                <a:ext cx="4176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3906000" y="2427840"/>
                <a:ext cx="41760" cy="2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3906000" y="2185560"/>
                <a:ext cx="41760" cy="2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3906000" y="1943280"/>
                <a:ext cx="4176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3906000" y="1701000"/>
                <a:ext cx="4176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3906000" y="1458720"/>
                <a:ext cx="4176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 flipV="1">
                <a:off x="2369880" y="5769000"/>
                <a:ext cx="1440" cy="6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 flipV="1">
                <a:off x="1576440" y="5773320"/>
                <a:ext cx="1440" cy="6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7" name=""/>
          <p:cNvSpPr/>
          <p:nvPr/>
        </p:nvSpPr>
        <p:spPr>
          <a:xfrm>
            <a:off x="3772080" y="61912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Population</a:t>
            </a: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(‘00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6473880"/>
            <a:ext cx="655308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"/>
              </a:rPr>
              <a:t>Source: Hong Kong Census and Statistics Department Projected Population  1999-20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Increase in Chronic Dise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Aged 65 or over</a:t>
            </a:r>
            <a:r>
              <a:rPr b="1" lang="zh-TW" sz="3200" spc="-1" strike="noStrike">
                <a:solidFill>
                  <a:srgbClr val="996633"/>
                </a:solidFill>
                <a:latin typeface="Times New Roman"/>
              </a:rPr>
              <a:t>:</a:t>
            </a:r>
            <a:r>
              <a:rPr b="1" lang="zh-TW" sz="3200" spc="-1" strike="noStrike">
                <a:solidFill>
                  <a:srgbClr val="996633"/>
                </a:solidFill>
                <a:latin typeface="新細明體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5040">
              <a:spcBef>
                <a:spcPts val="799"/>
              </a:spcBef>
              <a:buClr>
                <a:srgbClr val="99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996600"/>
                </a:solidFill>
                <a:latin typeface="Times New Roman"/>
              </a:rPr>
              <a:t>75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Aged 45-</a:t>
            </a:r>
            <a:r>
              <a:rPr b="1" lang="zh-TW" sz="3200" spc="-1" strike="noStrike">
                <a:solidFill>
                  <a:srgbClr val="996600"/>
                </a:solidFill>
                <a:latin typeface="Times New Roman"/>
              </a:rPr>
              <a:t>6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5040">
              <a:spcBef>
                <a:spcPts val="799"/>
              </a:spcBef>
              <a:buClr>
                <a:srgbClr val="99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996600"/>
                </a:solidFill>
                <a:latin typeface="Times New Roman"/>
              </a:rPr>
              <a:t>45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suffering from 1 type or more of chronic diseas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175120" y="6324480"/>
            <a:ext cx="44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新細明體"/>
              </a:rPr>
              <a:t>Source: Health and Welfare Bureau Study,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7483320" y="3809880"/>
            <a:ext cx="974880" cy="1219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3T00:54:56Z</dcterms:created>
  <dc:creator>Tom Chan</dc:creator>
  <dc:description/>
  <dc:language>en-US</dc:language>
  <cp:lastModifiedBy>Oriental</cp:lastModifiedBy>
  <cp:lastPrinted>2001-09-03T05:25:54Z</cp:lastPrinted>
  <dcterms:modified xsi:type="dcterms:W3CDTF">2001-11-30T13:11:56Z</dcterms:modified>
  <cp:revision>129</cp:revision>
  <dc:subject/>
  <dc:title>No Slide Title</dc:title>
</cp:coreProperties>
</file>