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6.png" ContentType="image/pn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41000"/>
            <a:ext cx="2946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ED98-8131-426A-8238-A0A196DF0C3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73280"/>
            <a:ext cx="4952880" cy="3714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6480" y="4721400"/>
            <a:ext cx="498456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推廣“康健樂頤年”的國家或地區得到人民響應的主題，是把年長視為一個可以積極面對的過程，長者雖然有不同的需要，但仍然充滿機會。重點是改善長者的生活質素，而並非只眼於治療和預防疾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“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康健樂頤年”策略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促使市民從小養成健康的生活方式，以改善個人的身體和心理社會健康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鼓勵個人為自己的健康負責，同時協助有需要的人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政府應起帶頭作用，並與專業組織、志願團體和私營機構等有關方面合作，協力向公眾推介“康健樂頤年”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在社區推動環境改革，通過去除障礙的社區設計、發展可供體弱和殘疾人士使用的運輸服務，以及建立社區護理支援網絡，促進健康生活，達到“老有所屬”的目的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協助長者繼續參與社區、經濟和社交活動，確保他們可以繼續享有積極愜意的生活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華康細明體"/>
              </a:rPr>
              <a:t>積極採取各項措施，推廣年長的正面形象，強調長者對家庭、社區和社會可作的貢獻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252-12A7-4A86-AB43-58AA0790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E66-F009-4ACA-B5DA-BE43563C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AF9-CEA9-4B20-8FB5-EE6BB105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3F8-8869-4C2D-B397-5572895B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33D-E79D-4552-A15A-13B278A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D19-7772-439F-85FE-50DDD270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19E-46A0-4A07-A320-C5703454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A20-A460-4E5C-8171-794676DB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A7A-83D3-48A7-9064-111FE00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236-2C58-4202-B61A-ACC023F8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36A-BBCD-4102-9F3F-E44196E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568-0892-4019-AD20-FF9BC7E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3BFD-D3A9-4075-A70E-DD77C557C53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alogo" descr=""/>
          <p:cNvPicPr/>
          <p:nvPr/>
        </p:nvPicPr>
        <p:blipFill>
          <a:blip r:embed="rId3"/>
          <a:stretch/>
        </p:blipFill>
        <p:spPr>
          <a:xfrm>
            <a:off x="7924680" y="380880"/>
            <a:ext cx="64296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5181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3880" y="222876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roup-run-start" descr=""/>
          <p:cNvPicPr/>
          <p:nvPr/>
        </p:nvPicPr>
        <p:blipFill>
          <a:blip r:embed="rId3"/>
          <a:stretch/>
        </p:blipFill>
        <p:spPr>
          <a:xfrm>
            <a:off x="1905120" y="2362320"/>
            <a:ext cx="5181480" cy="3047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25760" y="5315040"/>
            <a:ext cx="5790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現時，長者人口佔總人囗約 </a:t>
            </a: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11%</a:t>
            </a: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，但卻佔病人住院日數的</a:t>
            </a: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46%</a:t>
            </a: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以上。</a:t>
            </a:r>
            <a:br>
              <a:rPr sz="3200"/>
            </a:br>
            <a:br>
              <a:rPr sz="3200"/>
            </a:b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慢性</a:t>
            </a:r>
            <a:r>
              <a:rPr b="1" lang="zh-TW" sz="3200" spc="-1" strike="noStrike">
                <a:solidFill>
                  <a:srgbClr val="660066"/>
                </a:solidFill>
                <a:latin typeface="細明體"/>
              </a:rPr>
              <a:t>疾病影響生活質素，增加個人困苦和社會負擔。</a:t>
            </a:r>
            <a:br>
              <a:rPr sz="3200"/>
            </a:br>
            <a:br>
              <a:rPr sz="3200"/>
            </a:br>
            <a:r>
              <a:rPr b="1" lang="zh-TW" sz="3200" spc="-1" strike="noStrike">
                <a:solidFill>
                  <a:srgbClr val="660066"/>
                </a:solidFill>
                <a:latin typeface="細明體"/>
              </a:rPr>
              <a:t>推行「康健樂頤年」，使個人達致身心康泰，享受增添的歲月，有益社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76212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II.  </a:t>
            </a:r>
            <a:r>
              <a:rPr b="1" lang="zh-TW" sz="4400" spc="-1" strike="noStrike">
                <a:solidFill>
                  <a:srgbClr val="660033"/>
                </a:solidFill>
                <a:latin typeface="Times New Roman"/>
              </a:rPr>
              <a:t>內容</a:t>
            </a:r>
            <a:br>
              <a:rPr sz="4400"/>
            </a:br>
            <a:br>
              <a:rPr sz="4400"/>
            </a:br>
            <a:r>
              <a:rPr b="1" lang="zh-TW" sz="4400" spc="-1" strike="noStrike">
                <a:solidFill>
                  <a:srgbClr val="660033"/>
                </a:solidFill>
                <a:latin typeface="Times New Roman"/>
              </a:rPr>
              <a:t>理想和策略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142640" y="22860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1" lang="zh-TW" sz="3200" spc="-1" strike="noStrike">
                <a:solidFill>
                  <a:srgbClr val="660033"/>
                </a:solidFill>
                <a:latin typeface="TimesNewRoman"/>
              </a:rPr>
              <a:t>是締造一個能夠持續促進健康生活的社會環境，讓所有人包括長者在內，都能獲得所需的資訊、服務和支援，為個人的健康和福祉作出明智的抉擇，並受到社會重視，能夠獨立自主地安享晚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8000"/>
                </a:solidFill>
                <a:latin typeface="Times New Roman"/>
                <a:ea typeface="細明體"/>
              </a:rPr>
              <a:t>康</a:t>
            </a:r>
            <a:r>
              <a:rPr b="1" lang="en-GB" sz="4400" spc="-1" strike="noStrike">
                <a:solidFill>
                  <a:srgbClr val="008000"/>
                </a:solidFill>
                <a:latin typeface="Times New Roman"/>
                <a:ea typeface="細明體"/>
              </a:rPr>
              <a:t>健</a:t>
            </a:r>
            <a:r>
              <a:rPr b="1" lang="zh-TW" sz="4400" spc="-1" strike="noStrike">
                <a:solidFill>
                  <a:srgbClr val="008000"/>
                </a:solidFill>
                <a:latin typeface="Times New Roman"/>
                <a:ea typeface="細明體"/>
              </a:rPr>
              <a:t>樂</a:t>
            </a:r>
            <a:r>
              <a:rPr b="1" lang="en-GB" sz="4400" spc="-1" strike="noStrike">
                <a:solidFill>
                  <a:srgbClr val="008000"/>
                </a:solidFill>
                <a:latin typeface="Times New Roman"/>
                <a:ea typeface="細明體"/>
              </a:rPr>
              <a:t>頤</a:t>
            </a:r>
            <a:r>
              <a:rPr b="1" lang="zh-TW" sz="4400" spc="-1" strike="noStrike">
                <a:solidFill>
                  <a:srgbClr val="008000"/>
                </a:solidFill>
                <a:latin typeface="Times New Roman"/>
                <a:ea typeface="細明體"/>
              </a:rPr>
              <a:t>年</a:t>
            </a:r>
            <a:r>
              <a:rPr b="1" lang="en-GB" sz="4400" spc="-1" strike="noStrike">
                <a:solidFill>
                  <a:srgbClr val="008000"/>
                </a:solidFill>
                <a:latin typeface="Times New Roman"/>
                <a:ea typeface="細明體"/>
              </a:rPr>
              <a:t>運</a:t>
            </a:r>
            <a:r>
              <a:rPr b="1" lang="zh-TW" sz="4400" spc="-1" strike="noStrike">
                <a:solidFill>
                  <a:srgbClr val="008000"/>
                </a:solidFill>
                <a:latin typeface="Times New Roman"/>
                <a:ea typeface="細明體"/>
              </a:rPr>
              <a:t>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1447920"/>
            <a:ext cx="7467480" cy="84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四個“康健樂頤年”策略方針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240" y="26668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80"/>
                </a:solidFill>
                <a:latin typeface="細明體"/>
              </a:rPr>
              <a:t>1.  </a:t>
            </a:r>
            <a:r>
              <a:rPr b="1" lang="zh-TW" sz="2400" spc="-1" strike="noStrike">
                <a:solidFill>
                  <a:srgbClr val="800080"/>
                </a:solidFill>
                <a:latin typeface="細明體"/>
              </a:rPr>
              <a:t>	</a:t>
            </a:r>
            <a:r>
              <a:rPr b="1" lang="zh-TW" sz="2800" spc="-1" strike="noStrike">
                <a:solidFill>
                  <a:srgbClr val="800080"/>
                </a:solidFill>
                <a:latin typeface="細明體"/>
              </a:rPr>
              <a:t>提倡個人責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6600"/>
                </a:solidFill>
                <a:latin typeface="細明體"/>
              </a:rPr>
              <a:t>2.  </a:t>
            </a:r>
            <a:r>
              <a:rPr b="1" lang="zh-TW" sz="2800" spc="-1" strike="noStrike">
                <a:solidFill>
                  <a:srgbClr val="cc6600"/>
                </a:solidFill>
                <a:latin typeface="細明體"/>
              </a:rPr>
              <a:t>	</a:t>
            </a:r>
            <a:r>
              <a:rPr b="1" lang="zh-TW" sz="2800" spc="-1" strike="noStrike">
                <a:solidFill>
                  <a:srgbClr val="cc6600"/>
                </a:solidFill>
                <a:latin typeface="細明體"/>
              </a:rPr>
              <a:t>推動社會積極參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細明體"/>
              </a:rPr>
              <a:t>3.  </a:t>
            </a:r>
            <a:r>
              <a:rPr b="1" lang="zh-TW" sz="2800" spc="-1" strike="noStrike">
                <a:solidFill>
                  <a:srgbClr val="6666ff"/>
                </a:solidFill>
                <a:latin typeface="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細明體"/>
              </a:rPr>
              <a:t>創造可促進健康生活的環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8000"/>
                </a:solidFill>
                <a:latin typeface="細明體"/>
              </a:rPr>
              <a:t>4.  </a:t>
            </a:r>
            <a:r>
              <a:rPr b="1" lang="zh-TW" sz="2800" spc="-1" strike="noStrike">
                <a:solidFill>
                  <a:srgbClr val="008000"/>
                </a:solidFill>
                <a:latin typeface="細明體"/>
              </a:rPr>
              <a:t>	</a:t>
            </a:r>
            <a:r>
              <a:rPr b="1" lang="zh-TW" sz="2800" spc="-1" strike="noStrike">
                <a:solidFill>
                  <a:srgbClr val="008000"/>
                </a:solidFill>
                <a:latin typeface="細明體"/>
              </a:rPr>
              <a:t>提升長者的形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TW" sz="4400" spc="-1" strike="noStrike">
                <a:solidFill>
                  <a:srgbClr val="800080"/>
                </a:solidFill>
                <a:latin typeface="Times New Roman"/>
              </a:rPr>
              <a:t>1.  </a:t>
            </a:r>
            <a:r>
              <a:rPr b="1" lang="zh-TW" sz="4400" spc="-1" strike="noStrike">
                <a:solidFill>
                  <a:srgbClr val="800080"/>
                </a:solidFill>
                <a:latin typeface="Times New Roman"/>
              </a:rPr>
              <a:t>提倡個人責任</a:t>
            </a:r>
            <a:br>
              <a:rPr sz="3600"/>
            </a:br>
            <a:br>
              <a:rPr sz="3600"/>
            </a:br>
            <a:r>
              <a:rPr b="1" lang="zh-TW" sz="3200" spc="-1" strike="noStrike">
                <a:solidFill>
                  <a:srgbClr val="008000"/>
                </a:solidFill>
                <a:latin typeface="細明體"/>
              </a:rPr>
              <a:t>個人生活方式，是影響個人健康狀況四大因素之一。</a:t>
            </a:r>
            <a:r>
              <a:rPr b="1" lang="zh-TW" sz="3200" spc="-1" strike="noStrike">
                <a:solidFill>
                  <a:srgbClr val="800080"/>
                </a:solidFill>
                <a:latin typeface="Times New Roman"/>
              </a:rPr>
              <a:t>這是你的決定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14400" y="1371600"/>
            <a:ext cx="731520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追求健康  自我提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utton_3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button_2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3962520" y="39625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553080" y="5181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510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5029200"/>
            <a:ext cx="1295280" cy="3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18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細明體"/>
              </a:rPr>
              <a:t>戒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3505320"/>
            <a:ext cx="1295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細明體"/>
              </a:rPr>
              <a:t>經常運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3505320"/>
            <a:ext cx="12952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細明體"/>
              </a:rPr>
              <a:t>均衡飲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3300"/>
                </a:solidFill>
                <a:latin typeface="細明體"/>
              </a:rPr>
              <a:t>2. </a:t>
            </a:r>
            <a:r>
              <a:rPr b="1" lang="zh-TW" sz="4400" spc="-1" strike="noStrike">
                <a:solidFill>
                  <a:srgbClr val="cc3300"/>
                </a:solidFill>
                <a:latin typeface="細明體"/>
              </a:rPr>
              <a:t>推動社會積極參與</a:t>
            </a:r>
            <a:br>
              <a:rPr sz="3600"/>
            </a:br>
            <a:br>
              <a:rPr sz="3600"/>
            </a:br>
            <a:r>
              <a:rPr b="1" lang="zh-TW" sz="3200" spc="-1" strike="noStrike">
                <a:solidFill>
                  <a:srgbClr val="00cc99"/>
                </a:solidFill>
                <a:latin typeface="細明體"/>
              </a:rPr>
              <a:t>政府、非政府機構、地區組織、商界、醫療專業人員和學者、傳媒和義工齊培養追求健康生活的社會風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65530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00"/>
                </a:solidFill>
                <a:latin typeface="Times New Roman"/>
              </a:rPr>
              <a:t>社會活動支持全面健康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48006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-838080" y="2743200"/>
            <a:ext cx="1904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29400" y="3886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352680" y="2362320"/>
            <a:ext cx="1752840" cy="13698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1676520" cy="12463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85800" y="26668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3300"/>
                </a:solidFill>
                <a:latin typeface="Times New Roman"/>
              </a:rPr>
              <a:t>健康資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1220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6600"/>
                </a:solidFill>
                <a:latin typeface="Times New Roman"/>
              </a:rPr>
              <a:t>飲食標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傳媒推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4120" y="32767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3300"/>
                </a:solidFill>
                <a:latin typeface="Times New Roman"/>
              </a:rPr>
              <a:t>義工參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15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62720" y="2362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Times New Roman"/>
              </a:rPr>
              <a:t>地區活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25146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9966ff"/>
                </a:solidFill>
                <a:latin typeface="細明體"/>
              </a:rPr>
              <a:t>3. </a:t>
            </a:r>
            <a:r>
              <a:rPr b="1" lang="zh-TW" sz="4400" spc="-1" strike="noStrike">
                <a:solidFill>
                  <a:srgbClr val="9966ff"/>
                </a:solidFill>
                <a:latin typeface="細明體"/>
              </a:rPr>
              <a:t>創造可促進健康生活的環境</a:t>
            </a:r>
            <a:br>
              <a:rPr sz="4400"/>
            </a:b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2819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細明體"/>
              </a:rPr>
              <a:t>房屋、交通、規劃界等提供方便長者和不同需要人士的生活環境，利便培養健康生活的良好社會風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1524240" cy="1357200"/>
          </a:xfrm>
          <a:prstGeom prst="rect">
            <a:avLst/>
          </a:prstGeom>
          <a:ln w="0">
            <a:noFill/>
          </a:ln>
        </p:spPr>
      </p:pic>
      <p:pic>
        <p:nvPicPr>
          <p:cNvPr id="356" name="Cob026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838080" cy="698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676520" y="1066680"/>
            <a:ext cx="60195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細明體"/>
              </a:rPr>
              <a:t>創造合適的環境</a:t>
            </a:r>
            <a:r>
              <a:rPr b="1" lang="zh-TW" sz="3600" spc="-1" strike="noStrike">
                <a:solidFill>
                  <a:srgbClr val="cc3300"/>
                </a:solidFill>
                <a:latin typeface="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66880" y="3352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209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適當設施和空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1828800" y="3124080"/>
            <a:ext cx="2247840" cy="2086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2485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學校課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3300"/>
                </a:solidFill>
                <a:latin typeface="Times New Roman"/>
              </a:rPr>
              <a:t>家庭支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22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工作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2286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細明體"/>
              </a:rPr>
              <a:t>以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33440" y="993600"/>
          <a:ext cx="6477120" cy="487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993600"/>
                    <a:ext cx="6477120" cy="487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65640" y="4343400"/>
            <a:ext cx="866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700" spc="-1" strike="noStrike">
                <a:solidFill>
                  <a:srgbClr val="cc3300"/>
                </a:solidFill>
                <a:latin typeface="Times New Roman"/>
              </a:rPr>
              <a:t>歡 迎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CT030" descr=""/>
          <p:cNvPicPr/>
          <p:nvPr/>
        </p:nvPicPr>
        <p:blipFill>
          <a:blip r:embed="rId3"/>
          <a:stretch/>
        </p:blipFill>
        <p:spPr>
          <a:xfrm>
            <a:off x="3467160" y="1905120"/>
            <a:ext cx="2462040" cy="220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TW" sz="4400" spc="-1" strike="noStrike">
                <a:solidFill>
                  <a:srgbClr val="008000"/>
                </a:solidFill>
                <a:latin typeface="Times New Roman"/>
              </a:rPr>
              <a:t>4.  </a:t>
            </a:r>
            <a:r>
              <a:rPr b="1" lang="zh-TW" sz="4400" spc="-1" strike="noStrike">
                <a:solidFill>
                  <a:srgbClr val="008000"/>
                </a:solidFill>
                <a:latin typeface="Times New Roman"/>
              </a:rPr>
              <a:t>提升長者的形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2666880"/>
            <a:ext cx="73152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800080"/>
                </a:solidFill>
                <a:latin typeface="細明體"/>
              </a:rPr>
              <a:t>宣揚年長的正確觀念，透過終身學習及積極參與有薪或義務工作，協助長者保持活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782040" cy="761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長者：社會資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3429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6600"/>
                </a:solidFill>
                <a:latin typeface="Times New Roman"/>
              </a:rPr>
              <a:t>提升長者自我形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積極生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持續學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438280" cy="14763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76920" y="1905120"/>
            <a:ext cx="44956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33ff"/>
                </a:solidFill>
                <a:latin typeface="Times New Roman"/>
              </a:rPr>
              <a:t>減低歧視和偏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66ff"/>
                </a:solidFill>
                <a:latin typeface="Times New Roman"/>
              </a:rPr>
              <a:t>大眾傳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1500"/>
              </a:spcBef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66ff"/>
                </a:solidFill>
                <a:latin typeface="Times New Roman"/>
              </a:rPr>
              <a:t>公眾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IV. </a:t>
            </a: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行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何時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現在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84240" y="4119480"/>
            <a:ext cx="374688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6600"/>
                </a:solidFill>
                <a:latin typeface="Times New Roman"/>
              </a:rPr>
              <a:t>從幼年到年長持續不斷的過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細明體"/>
              </a:rPr>
              <a:t>個人、社區協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676520" y="1908000"/>
            <a:ext cx="5456160" cy="403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5" name=""/>
          <p:cNvSpPr/>
          <p:nvPr/>
        </p:nvSpPr>
        <p:spPr>
          <a:xfrm>
            <a:off x="1828800" y="2057400"/>
            <a:ext cx="205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個人責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9200" y="2057400"/>
            <a:ext cx="1905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社會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28800" y="4876920"/>
            <a:ext cx="2209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促進健康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81480" y="4876920"/>
            <a:ext cx="175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提升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3505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9900"/>
                </a:solidFill>
                <a:latin typeface="Times New Roman"/>
              </a:rPr>
              <a:t>體魄和社會心理健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52680" y="31240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800" y="3048120"/>
            <a:ext cx="4572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352680" y="4266720"/>
            <a:ext cx="53352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181480" y="4191120"/>
            <a:ext cx="609840" cy="30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828800" y="4876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康健樂頤年資源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ttp://www.healthyageing.gov.h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bus-healthyageing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5639040" cy="20937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600200" y="1905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cc0000"/>
                </a:solidFill>
                <a:latin typeface="細明體"/>
              </a:rPr>
              <a:t>身心康健在你手 豐盛人生齊擁有 </a:t>
            </a:r>
            <a:r>
              <a:rPr b="1" i="1" lang="zh-TW" sz="2800" spc="-1" strike="noStrike">
                <a:solidFill>
                  <a:srgbClr val="cc0000"/>
                </a:solidFill>
                <a:latin typeface="細明體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6248520"/>
            <a:ext cx="70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細明體"/>
              </a:rPr>
              <a:t>(</a:t>
            </a:r>
            <a:r>
              <a:rPr b="0" lang="zh-TW" sz="1400" spc="-1" strike="noStrike">
                <a:solidFill>
                  <a:srgbClr val="ffffff"/>
                </a:solidFill>
                <a:latin typeface="細明體"/>
              </a:rPr>
              <a:t>本簡報資料版權屬安老事務委員會所有。此初版在</a:t>
            </a:r>
            <a:r>
              <a:rPr b="0" lang="zh-TW" sz="1400" spc="-1" strike="noStrike">
                <a:solidFill>
                  <a:srgbClr val="ffffff"/>
                </a:solidFill>
                <a:latin typeface="細明體"/>
              </a:rPr>
              <a:t>2001</a:t>
            </a:r>
            <a:r>
              <a:rPr b="0" lang="zh-TW" sz="1400" spc="-1" strike="noStrike">
                <a:solidFill>
                  <a:srgbClr val="ffffff"/>
                </a:solidFill>
                <a:latin typeface="細明體"/>
              </a:rPr>
              <a:t>年</a:t>
            </a:r>
            <a:r>
              <a:rPr b="0" lang="zh-TW" sz="1400" spc="-1" strike="noStrike">
                <a:solidFill>
                  <a:srgbClr val="ffffff"/>
                </a:solidFill>
                <a:latin typeface="細明體"/>
              </a:rPr>
              <a:t>12</a:t>
            </a:r>
            <a:r>
              <a:rPr b="0" lang="zh-TW" sz="1400" spc="-1" strike="noStrike">
                <a:solidFill>
                  <a:srgbClr val="ffffff"/>
                </a:solidFill>
                <a:latin typeface="細明體"/>
              </a:rPr>
              <a:t>月完成。</a:t>
            </a:r>
            <a:r>
              <a:rPr b="0" lang="zh-TW" sz="1400" spc="-1" strike="noStrike">
                <a:solidFill>
                  <a:srgbClr val="ffffff"/>
                </a:solidFill>
                <a:latin typeface="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細明體"/>
              </a:rPr>
              <a:t>「康健樂頤年」運動簡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71800" y="228600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細明體"/>
              </a:rPr>
              <a:t>背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33"/>
                </a:solidFill>
                <a:latin typeface="細明體"/>
              </a:rPr>
              <a:t>內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6600"/>
                </a:solidFill>
                <a:latin typeface="細明體"/>
              </a:rPr>
              <a:t>參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00"/>
                </a:solidFill>
                <a:latin typeface="細明體"/>
              </a:rPr>
              <a:t>行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細明體"/>
              </a:rPr>
              <a:t>I. </a:t>
            </a:r>
            <a:r>
              <a:rPr b="1" lang="zh-TW" sz="4400" spc="-1" strike="noStrike">
                <a:solidFill>
                  <a:srgbClr val="6666ff"/>
                </a:solidFill>
                <a:latin typeface="細明體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32763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66ff"/>
                </a:solidFill>
                <a:latin typeface="細明體"/>
              </a:rPr>
              <a:t>人口老化帶來的問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3120" y="653760"/>
            <a:ext cx="757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3300"/>
                </a:solidFill>
                <a:latin typeface="細明體"/>
              </a:rPr>
              <a:t>人口預期壽命的改變</a:t>
            </a:r>
            <a:r>
              <a:rPr b="1" lang="zh-TW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66680" y="1676520"/>
          <a:ext cx="7162920" cy="44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16292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5240" y="6370560"/>
            <a:ext cx="3867120" cy="2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ffff"/>
                </a:solidFill>
                <a:latin typeface="Arial"/>
              </a:rPr>
              <a:t>資料來源：香港政府統計處香港人口推算</a:t>
            </a:r>
            <a:r>
              <a:rPr b="1" lang="zh-TW" sz="1200" spc="-1" strike="noStrike">
                <a:solidFill>
                  <a:srgbClr val="ffffff"/>
                </a:solidFill>
                <a:latin typeface="Arial"/>
              </a:rPr>
              <a:t>1999-20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3300"/>
                </a:solidFill>
                <a:latin typeface="Times New Roman"/>
              </a:rPr>
              <a:t>65</a:t>
            </a:r>
            <a:r>
              <a:rPr b="1" lang="zh-TW" sz="3200" spc="-1" strike="noStrike">
                <a:solidFill>
                  <a:srgbClr val="663300"/>
                </a:solidFill>
                <a:latin typeface="Times New Roman"/>
              </a:rPr>
              <a:t>歲或以上人口比例 </a:t>
            </a:r>
            <a:r>
              <a:rPr b="1" lang="zh-TW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209320"/>
            <a:ext cx="5410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1971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年       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182,300   (4.5 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1981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年       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344,300   (6.6 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1991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年       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502,400   (8.7 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2000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年       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759,200   (11.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2021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年    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1,322,500   (15.7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2029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年    </a:t>
            </a:r>
            <a:r>
              <a:rPr b="0" lang="zh-TW" sz="2800" spc="-1" strike="noStrike">
                <a:solidFill>
                  <a:srgbClr val="009900"/>
                </a:solidFill>
                <a:latin typeface="Times New Roman"/>
              </a:rPr>
              <a:t>1,792,</a:t>
            </a:r>
            <a:r>
              <a:rPr b="0" lang="zh-TW" sz="2800" spc="-1" strike="noStrike">
                <a:solidFill>
                  <a:srgbClr val="008000"/>
                </a:solidFill>
                <a:latin typeface="Times New Roman"/>
              </a:rPr>
              <a:t>000   (19.8%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6248520"/>
            <a:ext cx="464832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"/>
              </a:rPr>
              <a:t>資料來源：香港政府統計處香港人口推算</a:t>
            </a:r>
            <a:r>
              <a:rPr b="0" lang="zh-TW" sz="1400" spc="-1" strike="noStrike">
                <a:solidFill>
                  <a:srgbClr val="ffffff"/>
                </a:solidFill>
                <a:latin typeface=""/>
              </a:rPr>
              <a:t>1999-20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88560" y="5999040"/>
            <a:ext cx="8660520" cy="382320"/>
            <a:chOff x="88560" y="5999040"/>
            <a:chExt cx="8660520" cy="382320"/>
          </a:xfrm>
        </p:grpSpPr>
        <p:sp>
          <p:nvSpPr>
            <p:cNvPr id="69" name=""/>
            <p:cNvSpPr/>
            <p:nvPr/>
          </p:nvSpPr>
          <p:spPr>
            <a:xfrm>
              <a:off x="4936320" y="60159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37240" y="60159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2480" y="60159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26280" y="60159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21880" y="60159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748720" y="601596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182480" y="59990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046320" y="599904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232000" y="599904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417680" y="599904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03000" y="599904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新細明體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8200" y="59990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0" y="1447920"/>
            <a:ext cx="8767440" cy="4431240"/>
            <a:chOff x="0" y="1447920"/>
            <a:chExt cx="8767440" cy="4431240"/>
          </a:xfrm>
        </p:grpSpPr>
        <p:sp>
          <p:nvSpPr>
            <p:cNvPr id="82" name=""/>
            <p:cNvSpPr/>
            <p:nvPr/>
          </p:nvSpPr>
          <p:spPr>
            <a:xfrm flipH="1" flipV="1">
              <a:off x="4087800" y="544500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087800" y="1965240"/>
              <a:ext cx="1440" cy="3564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95560" y="1465200"/>
              <a:ext cx="3970440" cy="4395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5560" y="1465200"/>
              <a:ext cx="3970440" cy="4395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790880" y="1465200"/>
              <a:ext cx="2549160" cy="4395600"/>
              <a:chOff x="4790880" y="1465200"/>
              <a:chExt cx="2549160" cy="4395600"/>
            </a:xfrm>
          </p:grpSpPr>
          <p:sp>
            <p:nvSpPr>
              <p:cNvPr id="87" name=""/>
              <p:cNvSpPr/>
              <p:nvPr/>
            </p:nvSpPr>
            <p:spPr>
              <a:xfrm>
                <a:off x="4795560" y="5615280"/>
                <a:ext cx="129204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95560" y="5369760"/>
                <a:ext cx="168696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95560" y="5123880"/>
                <a:ext cx="17902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95560" y="4878360"/>
                <a:ext cx="18658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95560" y="4645080"/>
                <a:ext cx="1807200" cy="232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95560" y="4399560"/>
                <a:ext cx="188244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95560" y="4153680"/>
                <a:ext cx="20980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95560" y="3908520"/>
                <a:ext cx="2532600" cy="245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795560" y="3663000"/>
                <a:ext cx="25444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95560" y="3417480"/>
                <a:ext cx="21214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95560" y="3171600"/>
                <a:ext cx="168012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95560" y="2926080"/>
                <a:ext cx="114156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95560" y="2680200"/>
                <a:ext cx="10666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95560" y="2447280"/>
                <a:ext cx="1014840" cy="232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95560" y="2201400"/>
                <a:ext cx="7822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95560" y="1955880"/>
                <a:ext cx="50976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94120" y="1710720"/>
                <a:ext cx="277200" cy="245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90880" y="1465200"/>
                <a:ext cx="1738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795560" y="5861160"/>
              <a:ext cx="3970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589360" y="5757480"/>
              <a:ext cx="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384600" y="5757480"/>
              <a:ext cx="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178400" y="5757480"/>
              <a:ext cx="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972200" y="5757480"/>
              <a:ext cx="180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766000" y="5757480"/>
              <a:ext cx="144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183920" y="1447920"/>
              <a:ext cx="597960" cy="4431240"/>
              <a:chOff x="4183920" y="1447920"/>
              <a:chExt cx="597960" cy="4431240"/>
            </a:xfrm>
          </p:grpSpPr>
          <p:sp>
            <p:nvSpPr>
              <p:cNvPr id="112" name=""/>
              <p:cNvSpPr/>
              <p:nvPr/>
            </p:nvSpPr>
            <p:spPr>
              <a:xfrm>
                <a:off x="4345200" y="5604480"/>
                <a:ext cx="33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0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5200" y="5365080"/>
                <a:ext cx="33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-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83920" y="511560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10-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83920" y="48740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15-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83920" y="46285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20-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83920" y="43826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24-2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83920" y="41371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30-3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83920" y="388908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35-3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83920" y="36435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40-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83920" y="34149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45-4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83920" y="31669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0-5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83920" y="29210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5-5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83920" y="26737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60-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83920" y="24303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65-6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183920" y="21848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70-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83920" y="19389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75-7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83920" y="169344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80-8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65640" y="14479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996633"/>
                    </a:solidFill>
                    <a:latin typeface="新細明體"/>
                  </a:rPr>
                  <a:t>85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H="1">
              <a:off x="0" y="1465200"/>
              <a:ext cx="4071600" cy="4381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0" y="1465200"/>
              <a:ext cx="4071600" cy="4381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963000" y="1465200"/>
              <a:ext cx="3108240" cy="4381200"/>
              <a:chOff x="963000" y="1465200"/>
              <a:chExt cx="3108240" cy="438120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2829240" y="5602680"/>
                <a:ext cx="1242000" cy="24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454840" y="5357160"/>
                <a:ext cx="161640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323440" y="5111280"/>
                <a:ext cx="17470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247480" y="4868280"/>
                <a:ext cx="1823760" cy="2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2311920" y="4634640"/>
                <a:ext cx="1758600" cy="233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1854000" y="4391640"/>
                <a:ext cx="2216520" cy="2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18680" y="4145760"/>
                <a:ext cx="27514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962640" y="3900240"/>
                <a:ext cx="310788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242000" y="3656520"/>
                <a:ext cx="2828520" cy="24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818720" y="3410640"/>
                <a:ext cx="225180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431080" y="3167640"/>
                <a:ext cx="1640160" cy="243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3048120" y="2921760"/>
                <a:ext cx="102312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3060720" y="2676240"/>
                <a:ext cx="100980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035520" y="2445120"/>
                <a:ext cx="1035000" cy="230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184560" y="2199600"/>
                <a:ext cx="88596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3405960" y="1955880"/>
                <a:ext cx="665280" cy="243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655080" y="1710720"/>
                <a:ext cx="416160" cy="245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713400" y="1465200"/>
                <a:ext cx="357840" cy="245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0" y="5846760"/>
              <a:ext cx="40716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626840" y="5741640"/>
              <a:ext cx="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0" y="5741640"/>
              <a:ext cx="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022640" y="584676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022640" y="560232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022640" y="5356080"/>
              <a:ext cx="4896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022640" y="511164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022640" y="486864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022640" y="463536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022640" y="439092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022640" y="4145040"/>
              <a:ext cx="48960" cy="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022640" y="390204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022640" y="365760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022640" y="341136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022640" y="316872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022640" y="292248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022640" y="267660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022640" y="2446200"/>
              <a:ext cx="489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022640" y="2200320"/>
              <a:ext cx="4896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022640" y="195732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022640" y="171144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022640" y="1465200"/>
              <a:ext cx="48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256920" y="5747760"/>
              <a:ext cx="1800" cy="10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442960" y="5739840"/>
              <a:ext cx="0" cy="1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11080" y="5741640"/>
              <a:ext cx="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733920" y="6286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3300"/>
                </a:solidFill>
                <a:latin typeface="Times New Roman"/>
              </a:rPr>
              <a:t>人口</a:t>
            </a:r>
            <a:r>
              <a:rPr b="1" lang="zh-TW" sz="1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1400" spc="-1" strike="noStrike">
                <a:solidFill>
                  <a:srgbClr val="ff3300"/>
                </a:solidFill>
                <a:latin typeface="Times New Roman"/>
              </a:rPr>
              <a:t>(‘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05400" y="1638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6699"/>
                </a:solidFill>
                <a:latin typeface="Verdana"/>
              </a:rPr>
              <a:t>男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7480" y="158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Verdana"/>
              </a:rPr>
              <a:t>女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5335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6633"/>
                </a:solidFill>
                <a:latin typeface="Times New Roman"/>
              </a:rPr>
              <a:t>香港：</a:t>
            </a:r>
            <a:r>
              <a:rPr b="1" lang="zh-TW" sz="2800" spc="-1" strike="noStrike">
                <a:solidFill>
                  <a:srgbClr val="996633"/>
                </a:solidFill>
                <a:latin typeface="Times New Roman"/>
              </a:rPr>
              <a:t>2000</a:t>
            </a:r>
            <a:r>
              <a:rPr b="1" lang="zh-TW" sz="2800" spc="-1" strike="noStrike">
                <a:solidFill>
                  <a:srgbClr val="996633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523200"/>
            <a:ext cx="3867120" cy="2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ffff"/>
                </a:solidFill>
                <a:latin typeface=""/>
              </a:rPr>
              <a:t>資料來源：香港政府統計處香港人口推算</a:t>
            </a:r>
            <a:r>
              <a:rPr b="1" lang="zh-TW" sz="1200" spc="-1" strike="noStrike">
                <a:solidFill>
                  <a:srgbClr val="ffffff"/>
                </a:solidFill>
                <a:latin typeface=""/>
              </a:rPr>
              <a:t>1999-20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19880" y="1409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6699"/>
                </a:solidFill>
                <a:latin typeface="Verdana"/>
              </a:rPr>
              <a:t>男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560" y="1403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Verdana"/>
              </a:rPr>
              <a:t>女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533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3300"/>
                </a:solidFill>
                <a:latin typeface="Times New Roman"/>
              </a:rPr>
              <a:t>香港 </a:t>
            </a:r>
            <a:r>
              <a:rPr b="1" lang="zh-TW" sz="2800" spc="-1" strike="noStrike">
                <a:solidFill>
                  <a:srgbClr val="cc3300"/>
                </a:solidFill>
                <a:latin typeface="Times New Roman"/>
              </a:rPr>
              <a:t>: 2029</a:t>
            </a:r>
            <a:r>
              <a:rPr b="1" lang="zh-TW" sz="2800" spc="-1" strike="noStrike">
                <a:solidFill>
                  <a:srgbClr val="cc3300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70000" y="1413000"/>
            <a:ext cx="8654040" cy="4852800"/>
            <a:chOff x="270000" y="1413000"/>
            <a:chExt cx="8654040" cy="4852800"/>
          </a:xfrm>
        </p:grpSpPr>
        <p:grpSp>
          <p:nvGrpSpPr>
            <p:cNvPr id="185" name=""/>
            <p:cNvGrpSpPr/>
            <p:nvPr/>
          </p:nvGrpSpPr>
          <p:grpSpPr>
            <a:xfrm>
              <a:off x="5015520" y="5991120"/>
              <a:ext cx="3728160" cy="274680"/>
              <a:chOff x="5015520" y="5991120"/>
              <a:chExt cx="3728160" cy="274680"/>
            </a:xfrm>
          </p:grpSpPr>
          <p:sp>
            <p:nvSpPr>
              <p:cNvPr id="186" name=""/>
              <p:cNvSpPr/>
              <p:nvPr/>
            </p:nvSpPr>
            <p:spPr>
              <a:xfrm>
                <a:off x="5015520" y="599112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88720" y="59911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58760" y="59911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30240" y="59911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001720" y="59911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43320" y="5991120"/>
                <a:ext cx="3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94840" y="5981400"/>
              <a:ext cx="3916800" cy="274680"/>
              <a:chOff x="294840" y="5981400"/>
              <a:chExt cx="3916800" cy="274680"/>
            </a:xfrm>
          </p:grpSpPr>
          <p:sp>
            <p:nvSpPr>
              <p:cNvPr id="193" name=""/>
              <p:cNvSpPr/>
              <p:nvPr/>
            </p:nvSpPr>
            <p:spPr>
              <a:xfrm flipH="1">
                <a:off x="294480" y="5981400"/>
                <a:ext cx="3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954720" y="59814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735920" y="59814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508840" y="59814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3282120" y="59814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079880" y="59814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ffffff"/>
                    </a:solidFill>
                    <a:latin typeface="新細明體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991040" y="1428480"/>
              <a:ext cx="3933000" cy="4382640"/>
              <a:chOff x="4991040" y="1428480"/>
              <a:chExt cx="3933000" cy="4382640"/>
            </a:xfrm>
          </p:grpSpPr>
          <p:sp>
            <p:nvSpPr>
              <p:cNvPr id="200" name=""/>
              <p:cNvSpPr/>
              <p:nvPr/>
            </p:nvSpPr>
            <p:spPr>
              <a:xfrm>
                <a:off x="4991040" y="1428480"/>
                <a:ext cx="3931200" cy="4380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991040" y="1428480"/>
                <a:ext cx="3931200" cy="4380480"/>
              </a:xfrm>
              <a:prstGeom prst="rect">
                <a:avLst/>
              </a:prstGeom>
              <a:noFill/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4991040" y="1428480"/>
                <a:ext cx="2735280" cy="4380120"/>
                <a:chOff x="4991040" y="1428480"/>
                <a:chExt cx="2735280" cy="4380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991040" y="5562360"/>
                  <a:ext cx="186624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91040" y="5325840"/>
                  <a:ext cx="2007000" cy="2361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91040" y="5079600"/>
                  <a:ext cx="208296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91040" y="4831560"/>
                  <a:ext cx="199080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1040" y="4596840"/>
                  <a:ext cx="1856520" cy="2343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91040" y="4348800"/>
                  <a:ext cx="202500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991040" y="4100400"/>
                  <a:ext cx="240048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991040" y="3866040"/>
                  <a:ext cx="2735280" cy="2343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991040" y="3619800"/>
                  <a:ext cx="268524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91040" y="3371400"/>
                  <a:ext cx="259308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991040" y="3137040"/>
                  <a:ext cx="2317680" cy="2343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991040" y="2888640"/>
                  <a:ext cx="2107440" cy="2480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991040" y="2640240"/>
                  <a:ext cx="2167200" cy="24840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991040" y="2405880"/>
                  <a:ext cx="2225520" cy="23400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991040" y="2157480"/>
                  <a:ext cx="1815840" cy="24840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91040" y="1910880"/>
                  <a:ext cx="123012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991040" y="1674720"/>
                  <a:ext cx="694440" cy="23616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991040" y="1428480"/>
                  <a:ext cx="469440" cy="246240"/>
                </a:xfrm>
                <a:prstGeom prst="rect">
                  <a:avLst/>
                </a:prstGeom>
                <a:solidFill>
                  <a:srgbClr val="00cc99"/>
                </a:solidFill>
                <a:ln w="79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4991040" y="5808960"/>
                <a:ext cx="393120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991040" y="574632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5777280" y="574632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563880" y="574632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349040" y="574632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135640" y="574632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922240" y="5746320"/>
                <a:ext cx="1800" cy="6264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91040" y="1428480"/>
                <a:ext cx="1800" cy="438048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91040" y="580896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91040" y="556236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91040" y="532620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91040" y="507996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1040" y="483156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91040" y="459720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91040" y="434880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91040" y="410076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91040" y="386604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91040" y="361980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91040" y="337140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91040" y="313704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91040" y="288864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91040" y="264024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91040" y="2406240"/>
                <a:ext cx="42120" cy="180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91040" y="215748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91040" y="191088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91040" y="167472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91040" y="1428480"/>
                <a:ext cx="42120" cy="2160"/>
              </a:xfrm>
              <a:prstGeom prst="line">
                <a:avLst/>
              </a:prstGeom>
              <a:ln w="7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358520" y="1413000"/>
              <a:ext cx="597960" cy="4406760"/>
              <a:chOff x="4358520" y="1413000"/>
              <a:chExt cx="597960" cy="4406760"/>
            </a:xfrm>
          </p:grpSpPr>
          <p:sp>
            <p:nvSpPr>
              <p:cNvPr id="249" name=""/>
              <p:cNvSpPr/>
              <p:nvPr/>
            </p:nvSpPr>
            <p:spPr>
              <a:xfrm>
                <a:off x="4522320" y="5545080"/>
                <a:ext cx="33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0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22320" y="5296320"/>
                <a:ext cx="335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-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58520" y="50623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10-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58520" y="48117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15-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58520" y="45673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20-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58520" y="43333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24-2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58520" y="408708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30-3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58520" y="38383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35-3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358520" y="36025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40-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58520" y="33559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45-4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8520" y="310968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0-5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8520" y="286920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55-5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58520" y="262872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新細明體"/>
                  </a:rPr>
                  <a:t>60-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58520" y="238068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65-6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58520" y="214200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70-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58520" y="189360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75-7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58520" y="1649160"/>
                <a:ext cx="597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80-8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60040" y="14130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cc6600"/>
                    </a:solidFill>
                    <a:latin typeface="新細明體"/>
                  </a:rPr>
                  <a:t>85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0000" y="1423800"/>
              <a:ext cx="3947400" cy="4379400"/>
              <a:chOff x="270000" y="1423800"/>
              <a:chExt cx="3947400" cy="437940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270720" y="1423800"/>
                <a:ext cx="3945960" cy="4377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70720" y="1423800"/>
                <a:ext cx="3945960" cy="4377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1389600" y="1423800"/>
                <a:ext cx="2827440" cy="4377240"/>
                <a:chOff x="1389600" y="1423800"/>
                <a:chExt cx="2827440" cy="4377240"/>
              </a:xfrm>
            </p:grpSpPr>
            <p:sp>
              <p:nvSpPr>
                <p:cNvPr id="271" name=""/>
                <p:cNvSpPr/>
                <p:nvPr/>
              </p:nvSpPr>
              <p:spPr>
                <a:xfrm flipH="1">
                  <a:off x="2473920" y="5558400"/>
                  <a:ext cx="1743120" cy="242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2350440" y="5316120"/>
                  <a:ext cx="186588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2285640" y="5073840"/>
                  <a:ext cx="193068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2358360" y="4831200"/>
                  <a:ext cx="18579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145600" y="4588920"/>
                  <a:ext cx="207144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749960" y="4346640"/>
                  <a:ext cx="24663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405080" y="4104000"/>
                  <a:ext cx="2811240" cy="242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1389240" y="3861720"/>
                  <a:ext cx="282708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1643760" y="3605040"/>
                  <a:ext cx="2573280" cy="256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1891440" y="3362760"/>
                  <a:ext cx="232560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2358360" y="3120480"/>
                  <a:ext cx="18579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2340360" y="2878200"/>
                  <a:ext cx="18759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054880" y="2635560"/>
                  <a:ext cx="21621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1784880" y="2392920"/>
                  <a:ext cx="2432160" cy="242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2088360" y="2150640"/>
                  <a:ext cx="212796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2662920" y="1908360"/>
                  <a:ext cx="155340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3328560" y="1666080"/>
                  <a:ext cx="88848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3539880" y="1423800"/>
                  <a:ext cx="676440" cy="24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 flipH="1">
                <a:off x="271080" y="5801400"/>
                <a:ext cx="39459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4215960" y="5740200"/>
                <a:ext cx="14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426120" y="5740200"/>
                <a:ext cx="14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1058400" y="5740200"/>
                <a:ext cx="14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270000" y="5740200"/>
                <a:ext cx="14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4215960" y="1423800"/>
                <a:ext cx="1440" cy="437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175640" y="580140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4175640" y="555876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4175640" y="531612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4175640" y="507384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4175640" y="483156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4175640" y="458928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175640" y="434700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4175640" y="410400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175640" y="386172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4175640" y="360504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4175640" y="336276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175640" y="312048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175640" y="287820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4175640" y="263592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175640" y="239292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4175640" y="2150640"/>
                <a:ext cx="41760" cy="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4175640" y="190836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4175640" y="166608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4175640" y="1423800"/>
                <a:ext cx="417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2639520" y="5734080"/>
                <a:ext cx="144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1846440" y="5738400"/>
                <a:ext cx="1440" cy="6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3772080" y="6191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3300"/>
                </a:solidFill>
                <a:latin typeface="Times New Roman"/>
              </a:rPr>
              <a:t>人口</a:t>
            </a:r>
            <a:r>
              <a:rPr b="1" lang="zh-TW" sz="1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1400" spc="-1" strike="noStrike">
                <a:solidFill>
                  <a:srgbClr val="ff3300"/>
                </a:solidFill>
                <a:latin typeface="Times New Roman"/>
              </a:rPr>
              <a:t>(‘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1360" y="6515280"/>
            <a:ext cx="3867120" cy="2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ffffff"/>
                </a:solidFill>
                <a:latin typeface=""/>
              </a:rPr>
              <a:t>資料來源：香港政府統計處香港人口推算</a:t>
            </a:r>
            <a:r>
              <a:rPr b="1" lang="zh-TW" sz="1200" spc="-1" strike="noStrike">
                <a:solidFill>
                  <a:srgbClr val="ffffff"/>
                </a:solidFill>
                <a:latin typeface=""/>
              </a:rPr>
              <a:t>1999-20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658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3300"/>
                </a:solidFill>
                <a:latin typeface="細明體"/>
              </a:rPr>
              <a:t>慢性疾病的增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6633"/>
                </a:solidFill>
                <a:latin typeface="細明體"/>
              </a:rPr>
              <a:t>65</a:t>
            </a:r>
            <a:r>
              <a:rPr b="1" lang="zh-TW" sz="3200" spc="-1" strike="noStrike">
                <a:solidFill>
                  <a:srgbClr val="996633"/>
                </a:solidFill>
                <a:latin typeface="細明體"/>
              </a:rPr>
              <a:t>歲或以上</a:t>
            </a:r>
            <a:r>
              <a:rPr b="1" lang="zh-TW" sz="3200" spc="-1" strike="noStrike">
                <a:solidFill>
                  <a:srgbClr val="996633"/>
                </a:solidFill>
                <a:latin typeface="細明體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6600"/>
                </a:solidFill>
                <a:latin typeface="細明體"/>
              </a:rPr>
              <a:t>7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6600"/>
                </a:solidFill>
                <a:latin typeface="細明體"/>
              </a:rPr>
              <a:t>45</a:t>
            </a:r>
            <a:r>
              <a:rPr b="1" lang="zh-TW" sz="3200" spc="-1" strike="noStrike">
                <a:solidFill>
                  <a:srgbClr val="996600"/>
                </a:solidFill>
                <a:latin typeface="細明體"/>
              </a:rPr>
              <a:t>歲</a:t>
            </a:r>
            <a:r>
              <a:rPr b="1" lang="zh-TW" sz="3200" spc="-1" strike="noStrike">
                <a:solidFill>
                  <a:srgbClr val="996600"/>
                </a:solidFill>
                <a:latin typeface="細明體"/>
              </a:rPr>
              <a:t>-64</a:t>
            </a:r>
            <a:r>
              <a:rPr b="1" lang="zh-TW" sz="3200" spc="-1" strike="noStrike">
                <a:solidFill>
                  <a:srgbClr val="996600"/>
                </a:solidFill>
                <a:latin typeface="細明體"/>
              </a:rPr>
              <a:t>歲</a:t>
            </a:r>
            <a:r>
              <a:rPr b="1" lang="zh-TW" sz="3200" spc="-1" strike="noStrike">
                <a:solidFill>
                  <a:srgbClr val="996600"/>
                </a:solidFill>
                <a:latin typeface="細明體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6600"/>
                </a:solidFill>
                <a:latin typeface="細明體"/>
              </a:rPr>
              <a:t>4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6600"/>
                </a:solidFill>
                <a:latin typeface="細明體"/>
              </a:rPr>
              <a:t>患有一種或多種慢性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3760" y="6324480"/>
            <a:ext cx="18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資料來源： 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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生福利局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2000</a:t>
            </a:r>
            <a:r>
              <a:rPr b="1" lang="zh-TW" sz="1400" spc="-1" strike="noStrike">
                <a:solidFill>
                  <a:srgbClr val="ffffff"/>
                </a:solidFill>
                <a:latin typeface="新細明體"/>
              </a:rPr>
              <a:t>年長者及中年人之生活、健康及經濟狀況統計調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483320" y="3809880"/>
            <a:ext cx="974880" cy="121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00:54:56Z</dcterms:created>
  <dc:creator>Tom Chan</dc:creator>
  <dc:description/>
  <dc:language>en-US</dc:language>
  <cp:lastModifiedBy>Oriental</cp:lastModifiedBy>
  <cp:lastPrinted>2001-09-03T05:25:54Z</cp:lastPrinted>
  <dcterms:modified xsi:type="dcterms:W3CDTF">2001-11-30T13:12:01Z</dcterms:modified>
  <cp:revision>163</cp:revision>
  <dc:subject/>
  <dc:title>No Slide Title</dc:title>
</cp:coreProperties>
</file>